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wmf" ContentType="image/x-wmf"/>
  <Override PartName="/ppt/media/image26.wmf" ContentType="image/x-wmf"/>
  <Override PartName="/ppt/media/image22.jpeg" ContentType="image/jpeg"/>
  <Override PartName="/ppt/media/image21.jpeg" ContentType="image/jpeg"/>
  <Override PartName="/ppt/media/image2.wmf" ContentType="image/x-wmf"/>
  <Override PartName="/ppt/media/image15.gif" ContentType="image/gif"/>
  <Override PartName="/ppt/media/image28.jpeg" ContentType="image/jpeg"/>
  <Override PartName="/ppt/media/image34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18.png" ContentType="image/png"/>
  <Override PartName="/ppt/media/image6.jpeg" ContentType="image/jpeg"/>
  <Override PartName="/ppt/media/image12.wmf" ContentType="image/x-wmf"/>
  <Override PartName="/ppt/media/image33.gif" ContentType="image/gif"/>
  <Override PartName="/ppt/media/image35.png" ContentType="image/png"/>
  <Override PartName="/ppt/media/image4.wmf" ContentType="image/x-wmf"/>
  <Override PartName="/ppt/media/image27.wmf" ContentType="image/x-wmf"/>
  <Override PartName="/ppt/media/image30.png" ContentType="image/png"/>
  <Override PartName="/ppt/media/image3.jpeg" ContentType="image/jpeg"/>
  <Override PartName="/ppt/media/image23.jpeg" ContentType="image/jpeg"/>
  <Override PartName="/ppt/media/image7.jpeg" ContentType="image/jpeg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5.wmf" ContentType="image/x-wmf"/>
  <Override PartName="/ppt/media/image16.jpeg" ContentType="image/jpe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15D-6682-42FC-9801-F1631362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92C-26E5-4EFB-AE1D-F109FA05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9B2-D96C-4530-BCE3-ACA8E458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B1C-2851-403A-8764-BF50CE50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8F4-0028-49C3-969D-DDE6BC47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8B0-6771-45AF-80BF-73BBBFDA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983-EF06-4597-AA91-FD1F3B7A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D43-1710-4BF7-B362-C0078F61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3BF-CE11-4401-A04B-F661DB31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244-5023-4DAD-8297-0D702EAF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318-EAC8-4075-841B-5AC462DC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D9C-60D8-4F79-9E83-21B9EB1C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9993-BA82-4085-9897-BB0B001DC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77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ain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e that you are a computer systems engineer and your job is to design a computer that can perform all the functions of a human b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19520"/>
            <a:ext cx="777240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brainlike functions can already be performed by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brainlike functions cannot be performed by compute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1523880" cy="93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305000" cy="87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Hemisph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ebrum split into right and left hemispheres by a deep groove called the corpus callos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hemisphere is divided into 4 lob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1. fro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2. tempo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3. pariet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4. occi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9200" y="1693800"/>
            <a:ext cx="41148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92880" cy="5524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380880"/>
            <a:ext cx="6781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4 Lobes and Thei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al Hemisphe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hemisphere deals with the opposite side of the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ies sugg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side controls creativity and artistic 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 side controls analytical and mathematical 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362400"/>
            <a:ext cx="62481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Brain vs. Right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01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52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er layer – cerebral cortex (gray ma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ely packed nerve cell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es info. from sense organs &amp; controls body m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ner layer (white ma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axons with myelin sh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s cerebral cortex &amp; brain 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rgest part of th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the back of the sk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s and balances actions of the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32608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s brain to the spinal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below the 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ain parts: pons &amp; medulla oblong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blood pressure, heart rate, breathing,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78520" y="1523880"/>
            <a:ext cx="31654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lamus/Hypothala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nd between brain stem and cerebr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lamus – receives messages from all sensory recept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ypothalamus – control center for hunger, thirst, fatigue, anger, and body temper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62520" y="1295280"/>
            <a:ext cx="3381480" cy="2982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467480" y="4724280"/>
            <a:ext cx="111600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1803240" cy="138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743200" y="4876920"/>
            <a:ext cx="1676520" cy="1535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4952880" y="4876920"/>
            <a:ext cx="1851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ommunications link between brain and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 pairs of spinal 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8120" y="2286000"/>
            <a:ext cx="3825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xes are quick, automatic responses to a stimulus (esp. for times of dang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 so quic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Info. processed directly in spinal cord, not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 coughing, sneezing, blin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see Figure 35-11 in tex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4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hapter 35.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s of the Nervous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ll nerves that are not a part of the brain or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sensory and motor div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ens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mits impulse from sensory organs to C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o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mits impulse from CNS to muscles &amp; gl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rther divided into somatic nervous system and autonomic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86600" y="2590920"/>
            <a:ext cx="1671480" cy="1842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391520" y="4724280"/>
            <a:ext cx="144756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atic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s activities that are under conscious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x. movement of the skele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21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nomic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s activities that are automatic, or involu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heart pumping, sw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into two parts – sympathetic and para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opposite effects on same 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ympathetic speeds up heart rate while parasympathetic will slow 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943600" y="2362320"/>
            <a:ext cx="1209600" cy="106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93040" y="2133720"/>
            <a:ext cx="16509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does the “Fight-or-Flight” Respons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676520"/>
            <a:ext cx="4572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aced with a threatening situation, an organism can choose to fight or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mpathe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timulates activities that prepare the body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asympathe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rings the body back t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76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31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0200" y="3049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ervous System Divisions Concept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97400" y="3594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94360" y="30099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18080" y="1104840"/>
            <a:ext cx="1574640" cy="825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5400" y="1943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94360" y="2158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9200" y="2978280"/>
            <a:ext cx="1371600" cy="622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06880" y="3263760"/>
            <a:ext cx="299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2158920"/>
            <a:ext cx="408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87560" y="3009960"/>
            <a:ext cx="121932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6840" y="2387520"/>
            <a:ext cx="176544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11760" y="4119480"/>
            <a:ext cx="176508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0280" y="4119480"/>
            <a:ext cx="176508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11640" y="2387520"/>
            <a:ext cx="176544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3080" y="5257800"/>
            <a:ext cx="17654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9200" y="5245200"/>
            <a:ext cx="18158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171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3360" y="3129120"/>
            <a:ext cx="1501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nsists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27280" y="3890880"/>
            <a:ext cx="31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27280" y="389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63960" y="389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1280" y="2036880"/>
            <a:ext cx="1308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00520" y="3743280"/>
            <a:ext cx="11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mak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40200" y="47322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70080" y="5029200"/>
            <a:ext cx="313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700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071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900680"/>
            <a:ext cx="176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1117440"/>
            <a:ext cx="1575000" cy="825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Nervous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878200" y="2990880"/>
            <a:ext cx="5583240" cy="641160"/>
            <a:chOff x="2878200" y="2990880"/>
            <a:chExt cx="5583240" cy="641160"/>
          </a:xfrm>
        </p:grpSpPr>
        <p:sp>
          <p:nvSpPr>
            <p:cNvPr id="168" name=""/>
            <p:cNvSpPr/>
            <p:nvPr/>
          </p:nvSpPr>
          <p:spPr>
            <a:xfrm>
              <a:off x="7089840" y="2990880"/>
              <a:ext cx="1371600" cy="622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sory ner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8200" y="3022560"/>
              <a:ext cx="121896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tor ner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90560" y="4132440"/>
            <a:ext cx="4876920" cy="609480"/>
            <a:chOff x="790560" y="4132440"/>
            <a:chExt cx="4876920" cy="609480"/>
          </a:xfrm>
        </p:grpSpPr>
        <p:sp>
          <p:nvSpPr>
            <p:cNvPr id="171" name=""/>
            <p:cNvSpPr/>
            <p:nvPr/>
          </p:nvSpPr>
          <p:spPr>
            <a:xfrm>
              <a:off x="3902040" y="4132440"/>
              <a:ext cx="176544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tonomic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560" y="4132440"/>
              <a:ext cx="176544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matic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987480" y="2400480"/>
            <a:ext cx="5879880" cy="609480"/>
            <a:chOff x="987480" y="2400480"/>
            <a:chExt cx="5879880" cy="609480"/>
          </a:xfrm>
        </p:grpSpPr>
        <p:sp>
          <p:nvSpPr>
            <p:cNvPr id="174" name=""/>
            <p:cNvSpPr/>
            <p:nvPr/>
          </p:nvSpPr>
          <p:spPr>
            <a:xfrm>
              <a:off x="987480" y="2400480"/>
              <a:ext cx="176508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ntral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2280" y="2400480"/>
              <a:ext cx="176508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ipheral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133720" y="5257800"/>
            <a:ext cx="4971960" cy="622440"/>
            <a:chOff x="2133720" y="5257800"/>
            <a:chExt cx="4971960" cy="622440"/>
          </a:xfrm>
        </p:grpSpPr>
        <p:sp>
          <p:nvSpPr>
            <p:cNvPr id="177" name=""/>
            <p:cNvSpPr/>
            <p:nvPr/>
          </p:nvSpPr>
          <p:spPr>
            <a:xfrm>
              <a:off x="2133720" y="5270400"/>
              <a:ext cx="1765080" cy="609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mpathetic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89480" y="5257800"/>
              <a:ext cx="1816200" cy="609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sympathetic nervous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s of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. Central nervous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C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 center of the body – relays messages, processes info., and analyzes inf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. Peripheral nervous system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s info. from the environment and relays commands from the CNS to glands and org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00640" y="1371600"/>
            <a:ext cx="38433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Nervou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by sk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inal 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ed by vertebr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protected by 3 layers of connective tissue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ni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10280" y="1219320"/>
            <a:ext cx="1225800" cy="167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1379520" cy="1576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5880" y="3352680"/>
            <a:ext cx="14940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71560" y="1638360"/>
            <a:ext cx="5457960" cy="39290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15920" y="1397160"/>
            <a:ext cx="5750640" cy="4048200"/>
            <a:chOff x="1915920" y="1397160"/>
            <a:chExt cx="5750640" cy="4048200"/>
          </a:xfrm>
        </p:grpSpPr>
        <p:sp>
          <p:nvSpPr>
            <p:cNvPr id="57" name=""/>
            <p:cNvSpPr/>
            <p:nvPr/>
          </p:nvSpPr>
          <p:spPr>
            <a:xfrm>
              <a:off x="1915920" y="1943280"/>
              <a:ext cx="103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inal 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85920" y="1397160"/>
              <a:ext cx="10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ntral ca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7960" y="1397160"/>
              <a:ext cx="98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y mat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56640" y="1981080"/>
              <a:ext cx="104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hite mat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44840" y="5168880"/>
              <a:ext cx="152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ninges (3 laye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53352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ross Section of the Spinal 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ospinal Fl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between the meninges and the brain/spinal 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hes brain and spinal cord and acts as a shock absor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95680" y="3511440"/>
            <a:ext cx="5105520" cy="334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228600" y="3429000"/>
            <a:ext cx="4038480" cy="323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81480" y="32767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ar puncture – to collect C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o which impulses flow and from which impulses orig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116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73320" y="1697040"/>
            <a:ext cx="5521320" cy="37386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128600" y="1778040"/>
            <a:ext cx="7293240" cy="3743640"/>
            <a:chOff x="1128600" y="1778040"/>
            <a:chExt cx="7293240" cy="3743640"/>
          </a:xfrm>
        </p:grpSpPr>
        <p:sp>
          <p:nvSpPr>
            <p:cNvPr id="74" name=""/>
            <p:cNvSpPr/>
            <p:nvPr/>
          </p:nvSpPr>
          <p:spPr>
            <a:xfrm>
              <a:off x="2921400" y="4800600"/>
              <a:ext cx="52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41200" y="4305240"/>
              <a:ext cx="114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tuitary gl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28600" y="3949560"/>
              <a:ext cx="11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50960" y="1778040"/>
              <a:ext cx="85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ebr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64080" y="5219640"/>
              <a:ext cx="143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ulla oblong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72640" y="52452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inal c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4000" y="4267080"/>
              <a:ext cx="96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ebell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7160" y="2438280"/>
              <a:ext cx="81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45040" y="2158920"/>
              <a:ext cx="85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38080" y="762120"/>
            <a:ext cx="14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35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457200"/>
            <a:ext cx="464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Brain: Main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944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part of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voluntary (conscious) bod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of intelligence, learning, and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4343400"/>
            <a:ext cx="1463400" cy="1320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9920" y="4267080"/>
            <a:ext cx="2162160" cy="1717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1819440" cy="1128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791320" y="304920"/>
            <a:ext cx="3085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02:41:04Z</dcterms:created>
  <dc:creator>Theresa DeLaurentis</dc:creator>
  <dc:description/>
  <dc:language>en-US</dc:language>
  <cp:lastModifiedBy>Preferred Customer</cp:lastModifiedBy>
  <dcterms:modified xsi:type="dcterms:W3CDTF">2009-11-28T01:41:03Z</dcterms:modified>
  <cp:revision>10</cp:revision>
  <dc:subject/>
  <dc:title>Brainiac</dc:title>
</cp:coreProperties>
</file>